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FE6E8-6FD8-4BFE-92E7-9EB51CC37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75A96-9948-4BC4-9EDD-EBFC68285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65F58-3E45-4154-B5E4-F4DD431D5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6015A-088D-4DC0-902F-F1EE82AE3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DE1A1-CA82-4F72-B5C4-2EB22A4E6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2AEC2-1EDB-4FDC-828A-B5C671ACE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17DF9-18E0-4D06-BC70-F7DA75ADF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3B426-AD47-4F29-BB06-E1D063069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F644D-4415-4D39-8C47-B7BEEC33B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00396-9E35-4FF2-99E5-970127BA3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EB299-6F92-4A9C-8AD6-500884ADB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0DFC5-8973-481A-A8B6-3AB293BA5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A9BF9-F493-4F0D-9597-9B17BA42F0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Death By Co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oes it take to kill a man with pop and cand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riab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pendent-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sures I get from re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ependent -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bination of pop and Ment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teri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et Coke (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me brand or generic in 2 liter and 20oz. siz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), Mento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me bra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, ballo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predict that a 2 liter bottle of name brand Coke and a single roll of name brand Mentos will produce the highest pressures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rst I will individually test each combination of generic and name brand soda and Mentos. I will also test different sizes and choose the ones that I think creates the highest pressure to conduct my experiment with.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    Second I will test to see if my theory is even reasonable using balloons. I will repeat what I did in the last step using the most powerful combinations only this time placing balloons over the openings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Depending on the results I get I may or may not continue testing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a 2 liter bottle of Diet Coke and also using the generic version the theory test proved successful. Even with a partial package of mentos the ballons ruptured almost immediate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bsolute perfect conditions are created suffocation may be possible but the chances of stomach rupture are next to n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1T14:37:22Z</dcterms:created>
  <dc:creator>STERLING  USD376</dc:creator>
  <dc:description/>
  <dc:language>en-US</dc:language>
  <cp:lastModifiedBy>USD376</cp:lastModifiedBy>
  <dcterms:modified xsi:type="dcterms:W3CDTF">2011-03-28T19:35:52Z</dcterms:modified>
  <cp:revision>4</cp:revision>
  <dc:subject/>
  <dc:title>PowerPoint Presentation</dc:title>
</cp:coreProperties>
</file>